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08F-3341-48EB-98A1-743C5F26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5B5-48FF-43E0-A361-317A6C83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F4F-38C3-4E13-A5B1-DA34FF70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F63-D583-4AB0-95DF-69D2124B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5EA1-1103-49EF-B487-3772C257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0655-7D65-416E-89AD-63A87375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EA64-762C-4AA3-AAB2-9E34206F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FCC5-3899-4795-B156-ED765B4C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1BF3-96E7-43B3-B739-C97F3E2C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DD25-FC4F-4A9B-B47D-802BDB54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2323-735B-4E57-A5EA-B775CFBF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0AF-6D88-4452-8AC3-C85FA75C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1B17-F79F-4F8F-B5F1-5DCF36DB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8BCE-CF28-48FA-8673-A946C733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6B84-E689-487A-8097-1AEC77B0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E9DE-7098-4F5E-A7F0-06CD9431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A8E3-8D71-4416-B658-5DF58783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EF1-1B38-4C85-A151-5F7F5D3E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B47-7FB0-4072-8701-9A38FFAF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34D-C8BE-4C28-B3C6-C385E6C4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763-F1BC-49CC-BE76-3F10E166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0D2-8D62-4E88-B1FE-BC9F72B7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0F40-55E1-49BD-8BC2-81907FBA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FE1-EF60-4E5E-B655-6377D82D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37E6-2867-4FEC-85AF-348AC8976A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3CBF-3738-40EA-AC44-E1106F5921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is the approximate correct location of the center of mass of a car?</a:t>
            </a:r>
            <a:br>
              <a:rPr sz="4000"/>
            </a:b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1923840" cy="8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TPChart"/>
          <p:cNvGraphicFramePr/>
          <p:nvPr/>
        </p:nvGraphicFramePr>
        <p:xfrm>
          <a:off x="4191120" y="914400"/>
          <a:ext cx="4570200" cy="514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91440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362320" y="4497480"/>
            <a:ext cx="1923840" cy="796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362320" y="1295280"/>
            <a:ext cx="1923840" cy="800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2362320" y="2400480"/>
            <a:ext cx="1923840" cy="799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971800" y="2819520"/>
            <a:ext cx="76320" cy="759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4952880"/>
            <a:ext cx="7632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1676520"/>
            <a:ext cx="76320" cy="759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3809880"/>
            <a:ext cx="7632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0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Solving for CM / CG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cation of the center of mass of a system can be found using the conservation of moment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 a block that explodes into a bunch of pie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 =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4267080"/>
            <a:ext cx="1600200" cy="60984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5334120"/>
            <a:ext cx="380880" cy="6094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5334120"/>
            <a:ext cx="380880" cy="6094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5334120"/>
            <a:ext cx="380880" cy="6094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5334120"/>
            <a:ext cx="381240" cy="6094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81240" y="54388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54244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5410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5410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Solving for CM / CG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mentum of the system before exploding is the same after explo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af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c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v=d/t or x/t where x=d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c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t) =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t) +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t) +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t) +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 is the same for the whole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7200" y="5486400"/>
                <a:ext cx="8229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masses, 2kg, 3kg, and 6kg, are located at positions (3,0), (6,0), and (-4,0) respectively, in meters from the origin. Where is the center of mass of the system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Three people of roughly equivalent mass m on a lightweight banana boat sit along the x axis at positions x</a:t>
            </a:r>
            <a:r>
              <a:rPr b="0" lang="en-US" sz="2800" spc="-1" strike="noStrike" baseline="-25000">
                <a:solidFill>
                  <a:srgbClr val="e5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=1m, x</a:t>
            </a:r>
            <a:r>
              <a:rPr b="0" lang="en-US" sz="2800" spc="-1" strike="noStrike" baseline="-25000">
                <a:solidFill>
                  <a:srgbClr val="e5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=5m, and x</a:t>
            </a:r>
            <a:r>
              <a:rPr b="0" lang="en-US" sz="2800" spc="-1" strike="noStrike" baseline="-25000">
                <a:solidFill>
                  <a:srgbClr val="e5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e5ffff"/>
                </a:solidFill>
                <a:latin typeface="Arial"/>
              </a:rPr>
              <a:t>=6m. Find the position of the CM.</a:t>
            </a: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20" name="TPChart"/>
          <p:cNvGraphicFramePr/>
          <p:nvPr/>
        </p:nvGraphicFramePr>
        <p:xfrm>
          <a:off x="4572000" y="2173320"/>
          <a:ext cx="396072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73320"/>
                    <a:ext cx="39607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174760"/>
            <a:ext cx="4114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3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24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The centers of a 4kg sphere and a 7.5kg sphere are separated by a distance of 1.5m. Where is the center of mass of the system?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2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946160"/>
            <a:ext cx="41911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75m from the 4kg sp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86m from the 4kg sp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98m from the 4kg sp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02m from the 4kg sp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3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6836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Arial"/>
              </a:rPr>
              <a:t>Two skaters with masses of 65kg and 45kg, respectively, stand 8m apart, each holding an end of a rope. The light skater pulls on the rope until the two skaters meet. How far does the light skater travel?</a:t>
            </a:r>
            <a:endParaRPr b="0" lang="en-US" sz="24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3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114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5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73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27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3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2D Example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location of the C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1kg,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2kg,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3kg,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4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6095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6095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4,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133720"/>
            <a:ext cx="5486400" cy="4101840"/>
            <a:chOff x="1295280" y="2133720"/>
            <a:chExt cx="5486400" cy="4101840"/>
          </a:xfrm>
        </p:grpSpPr>
        <p:sp>
          <p:nvSpPr>
            <p:cNvPr id="245" name=""/>
            <p:cNvSpPr/>
            <p:nvPr/>
          </p:nvSpPr>
          <p:spPr>
            <a:xfrm>
              <a:off x="2209680" y="2590920"/>
              <a:ext cx="0" cy="3352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5943600"/>
              <a:ext cx="403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28960" y="3244680"/>
              <a:ext cx="380880" cy="381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13120" y="5759280"/>
              <a:ext cx="380880" cy="381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08440" y="3260880"/>
              <a:ext cx="381240" cy="38088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37240" y="5746680"/>
              <a:ext cx="380880" cy="3812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09680" y="3429000"/>
              <a:ext cx="2667240" cy="2514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47920" y="2833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0,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29200" y="29718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4,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48520" y="58672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81080" y="21337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5280" y="57913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47920" y="32004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81480" y="335268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81480" y="54864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put your head against the wall and stand up with the chair in the front of the roo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try to stand with your heels against the wall and lean over and touch your t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can’t you do either of these thing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Lesson #68</a:t>
            </a:r>
            <a:br>
              <a:rPr sz="2400"/>
            </a:b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Topic: Stability</a:t>
            </a:r>
            <a:endParaRPr b="0" lang="en-US" sz="2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st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an example of an object that is stable, unstable, and neut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/20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44197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arm U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What is an example of an object that is stable, unstable, and neutr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57150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Concept Development 10 -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ok Problems p147 RQ #16, 17, 20, TE 3,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Lesson #65</a:t>
            </a:r>
            <a:br>
              <a:rPr sz="2400"/>
            </a:b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Topic: Center of Mass / Gravity</a:t>
            </a:r>
            <a:endParaRPr b="0" lang="en-US" sz="2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80880" y="1904760"/>
            <a:ext cx="87631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Define center of gravity / m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Locate an object’s center of ma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/18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34340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rm Up: Toss different objects through the air and observe differences and similarities of their mo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172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gnment: Book Problems p147 RQ #5, 7, 8, 11,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Stability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ble: An object that i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ab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one where any rotation in any direction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ai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object’s center of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3809880"/>
            <a:ext cx="1828800" cy="1981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5791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531800">
            <a:off x="6019920" y="3505320"/>
            <a:ext cx="1828800" cy="198108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5029200"/>
            <a:ext cx="15228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53240" y="4633920"/>
            <a:ext cx="15228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0552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472428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696080" y="47239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Stability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stable: An object that i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stab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one where any rotation in any direction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ow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object’s center of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3505320" y="3809880"/>
            <a:ext cx="1828800" cy="1981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5791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4725200">
            <a:off x="5486400" y="4376520"/>
            <a:ext cx="1828800" cy="1981440"/>
          </a:xfrm>
          <a:prstGeom prst="triangle">
            <a:avLst>
              <a:gd name="adj" fmla="val 50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4572000"/>
            <a:ext cx="15228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5243400"/>
            <a:ext cx="152640" cy="15264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533412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464832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96080" y="4648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90920" y="4495680"/>
            <a:ext cx="1371600" cy="12956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4495680"/>
            <a:ext cx="1371600" cy="12956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Stability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al: An object that i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tr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one where any rotation in any direction wil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 chan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object’s center of grav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579132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5091120"/>
            <a:ext cx="15228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29400" y="5091120"/>
            <a:ext cx="152280" cy="152280"/>
          </a:xfrm>
          <a:prstGeom prst="ellipse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515304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4876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Which of the following objects is stable?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29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floorlamp"/>
          <p:cNvSpPr/>
          <p:nvPr/>
        </p:nvSpPr>
        <p:spPr>
          <a:xfrm>
            <a:off x="2286000" y="1752480"/>
            <a:ext cx="90504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971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hoto"/>
          <p:cNvSpPr/>
          <p:nvPr/>
        </p:nvSpPr>
        <p:spPr>
          <a:xfrm>
            <a:off x="2209680" y="2895480"/>
            <a:ext cx="1209960" cy="90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ubChord"/>
          <p:cNvSpPr/>
          <p:nvPr/>
        </p:nvSpPr>
        <p:spPr>
          <a:xfrm>
            <a:off x="2362320" y="3809880"/>
            <a:ext cx="11332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30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Which of the following objects is unstable?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30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floorlamp"/>
          <p:cNvSpPr/>
          <p:nvPr/>
        </p:nvSpPr>
        <p:spPr>
          <a:xfrm>
            <a:off x="2286000" y="1752480"/>
            <a:ext cx="90504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971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hoto"/>
          <p:cNvSpPr/>
          <p:nvPr/>
        </p:nvSpPr>
        <p:spPr>
          <a:xfrm>
            <a:off x="2209680" y="2895480"/>
            <a:ext cx="1209960" cy="90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ubChord"/>
          <p:cNvSpPr/>
          <p:nvPr/>
        </p:nvSpPr>
        <p:spPr>
          <a:xfrm>
            <a:off x="2362320" y="3809880"/>
            <a:ext cx="11332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31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Which of the following objects is neutral?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31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floorlamp"/>
          <p:cNvSpPr/>
          <p:nvPr/>
        </p:nvSpPr>
        <p:spPr>
          <a:xfrm>
            <a:off x="2286000" y="1752480"/>
            <a:ext cx="90504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971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hoto"/>
          <p:cNvSpPr/>
          <p:nvPr/>
        </p:nvSpPr>
        <p:spPr>
          <a:xfrm>
            <a:off x="2209680" y="2895480"/>
            <a:ext cx="1209960" cy="90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ubChord"/>
          <p:cNvSpPr/>
          <p:nvPr/>
        </p:nvSpPr>
        <p:spPr>
          <a:xfrm>
            <a:off x="2362320" y="3809880"/>
            <a:ext cx="11332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32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99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enter of gravity / mas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object can be treated as a particle with all of its mass concentrated at a single poi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oint is called the object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enter of Ma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oint where the force of gravity (weight) acts on an object is called it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enter of Grav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e purpose of this course, center of gravity and the center of mass will be the same 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, for very large objects these points may be in slightly different plac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the Empire State building has a center of mass that is 1mm higher than its center of grav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6600" y="277920"/>
            <a:ext cx="7930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Center of Mas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981080"/>
            <a:ext cx="144792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1905120"/>
            <a:ext cx="1371600" cy="121896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3886200"/>
            <a:ext cx="1447920" cy="137160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962520"/>
            <a:ext cx="1447560" cy="1295280"/>
          </a:xfrm>
          <a:custGeom>
            <a:avLst/>
            <a:gdLst>
              <a:gd name="textAreaLeft" fmla="*/ 340200 w 1447560"/>
              <a:gd name="textAreaRight" fmla="*/ 1106280 w 1447560"/>
              <a:gd name="textAreaTop" fmla="*/ 152280 h 1295280"/>
              <a:gd name="textAreaBottom" fmla="*/ 812520 h 1295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3886200"/>
            <a:ext cx="83808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2362320"/>
            <a:ext cx="1981440" cy="3808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Center of Mas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projectiles will follow a parabolic motion through the sk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, even if an object explodes in the air, its center of mass will continue to follow this mo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A firework is launched into the air and explodes at its highest poi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 flipV="1" rot="13586400">
            <a:off x="928440" y="4562640"/>
            <a:ext cx="7010640" cy="700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42" y="472"/>
                </a:moveTo>
                <a:arcTo wR="10800" hR="10800" stAng="-6419967" swAng="7636725"/>
                <a:lnTo>
                  <a:pt x="10800" y="10800"/>
                </a:lnTo>
                <a:close/>
              </a:path>
              <a:path fill="none" w="21600" h="21600">
                <a:moveTo>
                  <a:pt x="7642" y="472"/>
                </a:moveTo>
                <a:arcTo wR="10800" hR="10800" stAng="-6419967" swAng="7636725"/>
              </a:path>
            </a:pathLst>
          </a:cu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390200">
            <a:off x="1219320" y="6172200"/>
            <a:ext cx="152280" cy="533520"/>
          </a:xfrm>
          <a:prstGeom prst="flowChartMagneticDisk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4380840" y="4305240"/>
            <a:ext cx="152640" cy="533160"/>
          </a:xfrm>
          <a:prstGeom prst="flowChartMagneticDisk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enter of Mas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enter of mass of an object can be located many different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time you flip an object of any shape or size, it rotates around its center of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balance an object on a point, this point must be below the object’s center of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Lesson #66</a:t>
            </a:r>
            <a:br>
              <a:rPr sz="2400"/>
            </a:b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Topic: Lab: Finding C of G</a:t>
            </a:r>
            <a:endParaRPr b="0" lang="en-US" sz="2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ise a way to find the exact location of an object’s center of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/19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4290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arm Up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ow would you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stimat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location of the center of mass of an obj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952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ab task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ce 5 objects on separate sheets of paper and mark where the center of mass is for each objec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Lesson #67</a:t>
            </a:r>
            <a:br>
              <a:rPr sz="2400"/>
            </a:br>
            <a:r>
              <a:rPr b="1" lang="en-US" sz="2400" spc="-1" strike="noStrike">
                <a:solidFill>
                  <a:srgbClr val="e5ffff"/>
                </a:solidFill>
                <a:latin typeface="Arial"/>
              </a:rPr>
              <a:t>Topic: Solving for CM</a:t>
            </a:r>
            <a:endParaRPr b="0" lang="en-US" sz="2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e and solve for the exact location of the center of mass of an o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/20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46483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arm U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Where is the approximate correct location of the center of mass of a c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5715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“Solving CG” due at the end of the period tomorr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7-07-17T18:26:56Z</dcterms:modified>
  <cp:revision>222</cp:revision>
  <dc:subject/>
  <dc:title>Lesson #1 8/29/06 </dc:title>
</cp:coreProperties>
</file>